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6.png" ContentType="image/png"/>
  <Override PartName="/ppt/media/image14.png" ContentType="image/png"/>
  <Override PartName="/ppt/media/image40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7.wmf" ContentType="image/x-wmf"/>
  <Override PartName="/ppt/media/image31.png" ContentType="image/png"/>
  <Override PartName="/ppt/media/image6.png" ContentType="image/png"/>
  <Override PartName="/ppt/media/image32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9.png" ContentType="image/png"/>
  <Override PartName="/ppt/media/image2.wmf" ContentType="image/x-wmf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  <p:sldId id="285" r:id="rId53"/>
    <p:sldId id="286" r:id="rId54"/>
    <p:sldId id="287" r:id="rId55"/>
    <p:sldId id="288" r:id="rId56"/>
    <p:sldId id="28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slide" Target="slides/slide30.xml"/><Relationship Id="rId54" Type="http://schemas.openxmlformats.org/officeDocument/2006/relationships/slide" Target="slides/slide31.xml"/><Relationship Id="rId55" Type="http://schemas.openxmlformats.org/officeDocument/2006/relationships/slide" Target="slides/slide32.xml"/><Relationship Id="rId56" Type="http://schemas.openxmlformats.org/officeDocument/2006/relationships/slide" Target="slides/slide33.xml"/><Relationship Id="rId57" Type="http://schemas.openxmlformats.org/officeDocument/2006/relationships/slide" Target="slides/slide3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C51C3-F3D5-4F75-A089-B984D3A4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69F58-EB01-49F4-B061-8F329A2C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37FD2-713B-46EC-A42B-33760794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97CCB-6664-474D-93AC-AA38AD40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57D2E-6DF5-407D-9240-2B64ED96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B1DB9-83C3-4889-A36C-625CEF82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9D286-8CB4-449A-A3E1-5AB3B444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6AB69-7916-4A15-BC5F-5C68A077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A4A54-FA25-4F6F-A293-CFA23CA3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87FF8-D209-41F4-96D3-768672AE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83C1E-980B-4FD7-87A1-E88E690D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EFDD8-9FD6-4EFF-A3A8-7AF05757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62594-DCD4-4396-ACCA-95A2ABC3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3FD52-B90B-4C9A-9C06-9773FA58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85CFB-BBD1-473E-96D4-828FEEA3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EDDB8-701F-4BD7-9E7C-36CA0D67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8382D-55AD-4DD3-98AB-16BB8E49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94B4F-62A2-4113-8BD9-27080120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825CF-2952-4880-B926-677DD9C8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954A6-0B6E-4282-B148-22801E98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B5A1D-82DD-4F13-80FE-CF3F69B7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891BD-A7EA-494C-BBFE-4D7F972A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98F85-9F1D-4349-A06B-B72D3AF3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8E85F-EB93-4D45-A45D-1181629E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7C3E1-5F24-4A05-A861-8CD3FE9D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3849B-D531-4A70-8D02-33D736CC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B0326-75C1-47A6-9B00-7E142B3B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BAB3D-356D-4C64-9F65-08955E76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F9813-BB99-4A14-8D5F-4A092675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7119D-D8D0-41B1-99AD-DD11C6B5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EAFD7-5A42-4124-AC2A-151A3B40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B008E-E0D5-4781-9B91-9930409E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984D6-44AB-4D7E-A95C-68F509F7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59320-C130-4465-A6B7-8D3A89CE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C49A3-7131-400D-86CD-090141BC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4868D-8D8F-4776-8929-21C8B2F4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5265F-DA11-4C32-AE53-0315E1F2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4B5D3-A87F-4CEB-8420-9C432835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7BE87-F34F-40CC-99B4-640F8FBC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23F9E-F3EF-45F8-88CF-673A674A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C9FAF-D115-41FF-91F6-58DB6E63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7D9AA-2BA0-4E91-9AEB-B2292E0C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A0E00-0B0A-47DA-AE5D-159848DE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E149A-5A3D-425E-9F32-D40C7744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E2430-4196-4615-8BA5-E2D9E223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76E62-B877-416B-9715-5FCB7103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42BEB-0F55-4ED1-A2EF-A98B1EBA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B95EC-07EA-478F-BB7C-161E6593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6C392-EEA2-4392-AB48-5192DC80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607E5-3B08-4D67-8FD7-59D58B96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76D3D-856A-4497-9FEC-7CA92F8E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2B972-4E10-422F-9D5F-9FBE842A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7B47D-8D2D-4C64-A265-ED892CCC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DF259-413D-4595-B4A5-FE385200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FAF50-CB05-4571-8BC2-E17EC4FE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03DC7-1633-40B9-8F7E-5606AD3A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C7129-5418-4BEA-9D7C-C563894F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B01FD-2128-4D5E-BB5D-AD048956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32F69-338C-4771-A2C6-25FACE79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25902-ECFB-4763-8E3E-B373D2ED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49654-2476-4298-8F18-3E5369BE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EF30C-104D-4171-BBB1-8358960D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CCF78-2D6E-4D71-8B52-F55843D8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5FC7D-5A2B-4623-B840-4D686D56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2583B-A212-4239-A616-AF03598A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A0FEB-82E0-4775-97E2-76C34BAA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585C8-FA16-46B2-B4FE-D36799F0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8345E-CFEB-48A4-A8E0-5EF54915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6B6E4-3465-4E35-A34C-9D62A790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E1E34-508B-4FB4-BF0D-5ED1FBA6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BAFDA-A0CA-4524-AAA5-BDABFA9F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D3172-E669-4F4C-9527-6D536AEE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80C61-F29F-4A39-92FD-5A4A6A24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1949D-B1E4-4A63-AC6D-39D5640E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8FFB1-C439-494F-B01D-AD35CC52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8DAC3-B1D1-49E2-A160-73687978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AA274-1228-4032-954D-BA1CC242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D18FE-83FF-48EA-A4CC-87F860D1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1FEDC-CF8E-4AFF-98C0-292E1FE6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190D6-9EE0-4046-AAB5-5F42940A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BD728-CFB9-4C48-A901-13653D16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6C59F-62F3-4A10-9F1D-17F98643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CF39A-FCBA-45AB-9A08-A1FF6BB1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D8B65-E6FC-4CB9-B681-6FF8CD4C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D3465-101E-430F-BC6D-38202BAD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7136A-8F26-4CA1-9B75-DC448C4D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60CC6-4DDC-4D49-8BF4-4B735CBD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DC173-A5D5-4ABB-86B3-AA8CC64F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25806-76EB-4F36-839D-EEF148A5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9A0C6-C638-4C7B-9834-2AE61FD0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1C396-36D8-44E1-B97F-2382EEE8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1E5FF-961F-4ECB-956E-11D378AA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BD1F2-5551-4829-8344-1E7A8F15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02ABC-F949-4959-86FC-92D8C22E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A6752-5086-4B04-ACF3-A7DE1FAD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5A9D4-CE34-4FB3-BB4D-318B9B3B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3E487-FA88-4C0F-8147-FA1AA1E7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FDC31-2B3F-4715-AA23-4943ED19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F35B9-7D5D-4037-AE94-914E9F05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45F49-206A-419C-98C6-2151FC44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0477D-5470-4313-AA93-CDAE0BB1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C2611-44BC-47F6-8A10-6018F401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8E0B2-1E25-49DF-B581-3A197A98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0C3CD-62FD-43B5-818B-0F38C974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20633-F0C5-40E7-BBFA-4987ACDD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A17E2-4208-4682-A20E-87DAE140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DE2762-8ADB-4F27-9986-AC6FDD00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CDC2E-3FFA-436C-9814-65C333C9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3CFE5-CD09-4EB2-A478-89117428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E7D01-7028-4591-A40D-51103ABE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6120C-7B2A-46C9-8D2B-6E2976D2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24C17-BB76-46B7-97E3-DDE83217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388A9C-2A38-411C-AB2D-A3765E87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9753C-A666-40E1-AC80-FF7346F2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E72C44-6941-457B-9B4D-7E0FFAA5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8DCAA8-60B4-4968-A0FC-362BD57B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A4F5B-24E1-42AB-8BF8-1E2E4BD6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CDDBB-639C-47FB-AD0B-DADB6A63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8EB61-C849-47E2-94D9-9C5F1161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5EB7E-E78E-4506-8E0E-D4B0F71C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1A2CB-C22C-4E7B-B778-499AFAC5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4EB1C-1D29-40A5-AB76-FBA649A8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DCD161-2BF5-429D-A463-1864CA55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117E0B-634E-4731-99E2-EFA68FA0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07F134-71F2-48EA-A7FA-C303C1C9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C9BFEB-41B2-49A9-9D55-DC37BE9A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0791F-56F4-4615-86E7-F0251E26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6100A7-697D-436B-8959-D8CC99D5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F2019-F251-4A24-85B7-E1ED165B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AE3DCE-BA59-4CA6-A103-E815AD54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AB63D9-DE9F-418D-9129-86D4458C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52B8D5-DF92-4E5B-B718-BB274FA1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A3030-0DF7-4F36-804B-7AA1B93A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E364F-3F7A-488C-A3BF-2170EFA0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E07066-7410-42EE-AC60-2C363093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74FAC-1FA1-4571-B6DA-A4983BDE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770622-6346-42C3-B6D0-AE791048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3A40BB-4688-46EA-937B-F8732F26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2D250-4ECE-4A36-A93B-948DE4DB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5C1D2D-DAC0-4AA4-B6B6-3061191A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FD4585-EEF4-421D-9BA5-D8CD16F8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B48-54C5-45E5-B433-EADD90EA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12F-0549-4566-9DC7-6A225050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D33-C58F-4CC7-9FF0-B7CC5628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A3F-1A54-4895-B271-526ADBAA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A84-76AB-4B92-A00B-7FADF075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B79-BE1A-4C2F-89CB-535E2C98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FE0D-FB31-4375-9962-94B06F17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7F86-DE0D-4B89-A693-C5D46CEE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031-72A4-4B98-98A9-72F5C370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34D-67D6-4712-87C4-9B9B3693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330-ABBB-4AC0-B54C-B5F6BA62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84E-F5D8-4E97-83E6-98FC8B7D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445A-A675-48E4-BBE1-44281CC4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EF32-054F-4886-BF86-537BF76D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F0C5-E268-4EFC-8685-E3C8AD67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4697-03DC-447B-9960-0E301957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C9D4-5AA9-4C3F-8FC9-B261DC89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BC1E-70C9-4B08-A1E5-D36282C6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A828-8862-4846-B579-EF2C3FB1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ECCE-8C24-4C32-A961-8D6824F2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F62C-30CF-4FD8-8DB7-5AEFA110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51BF-EF9D-44E6-A9D8-0E875B44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F95F-D505-4E86-8107-9B26283E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CC63-FFB9-4AD4-AF53-45F8381F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83C0D-61C6-447A-BE5A-8744F042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82688-1ADB-4D4D-8D92-B0AD9F29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E4B8B-5F53-49A3-B49D-5C02C6F6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C1B4-571C-4363-9FF5-1122328E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1F3F2-861F-4CAF-A349-9D0005D5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3CCCC-4B53-4E00-996B-6DC6E15C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7AF9A-65F4-407D-9DC2-47CCF23B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D7E82-3E23-457E-8660-C1434ED1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7D803-50D1-4FF1-9C3D-BC179E75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2833C-B32E-4144-A3AB-035DEFB1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4B332-BC6C-41BA-8EFF-957FE9DA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D955-8D92-49CA-BCDA-8C1DD50B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67601-DD65-4DF6-BC42-03B107BC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9651F-F961-4EE4-9034-6CBF6911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CD9B6-2594-4652-A341-F680AE23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A32C7-8035-42AC-9FAB-F757CE72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BF6CE-0AF3-49D0-8E6E-9DD55CE2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004E8-2ACC-45AA-9D87-9C0BFF51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31D3A-E506-4F35-A021-9EC8A222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812F3-74A7-4D70-8333-670B6813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73A02-3130-4A5C-BF26-9E6093D9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18E64-2591-44C9-8EA1-062B6634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25137-EB95-4025-9C7F-C5A4AFA3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2CEE1-3E0E-4AF6-99F0-3F6D0E83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F4522-0C96-44A8-84EF-FF615A38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05690-DE52-4F9B-8FBC-D02F9CBF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856D8-940C-4EB6-A29D-1611A0DF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EE039A8F-7863-46F0-AE41-AF0789B73A15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8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421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3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9C44D15A-5927-4314-A247-4DCA2615E7DD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A9F9-F31B-452E-BD89-BB3950869F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469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6611F26F-7949-438C-8D61-018AEEBE0453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474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31D1-190E-401E-BB83-420F06EFC1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517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2C641D27-F120-4D0C-9B79-DD6469B78FE3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5DAF-9A30-4B17-9D9C-E7F43E5EF3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565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4" descr="R:\Templates &amp; Logos\Logos\FEFE Logos from Debra Bowles\FEFE Logo Clear Background.png"/>
          <p:cNvPicPr/>
          <p:nvPr/>
        </p:nvPicPr>
        <p:blipFill>
          <a:blip r:embed="rId4"/>
          <a:stretch/>
        </p:blipFill>
        <p:spPr>
          <a:xfrm>
            <a:off x="2666880" y="5562720"/>
            <a:ext cx="1067040" cy="593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R:\TCAI\Templates &amp; Logos\Logos\TCAI ICON_final.png"/>
          <p:cNvPicPr/>
          <p:nvPr/>
        </p:nvPicPr>
        <p:blipFill>
          <a:blip r:embed="rId5"/>
          <a:stretch/>
        </p:blipFill>
        <p:spPr>
          <a:xfrm>
            <a:off x="6705720" y="579132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09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1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Picture 7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915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613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dobe Jenson Pro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5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8D7E-55ED-4BDA-B2E5-6066D879D5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9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B793-0D8E-4F94-BD04-AC03C5554B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74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5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8BAC-263C-4691-BD56-FB41328728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78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423E-72C8-4B5E-A3D4-F0C07B4C0E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83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5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ED58-EAFF-4F4C-A34F-4F86868DA1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46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87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9549-E9A4-47AD-A2B6-651FAAA205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92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5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447F-3AA1-4481-AEA3-FEC1A4B235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96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3FCA-CBD6-4FD5-9FD5-560F05CBAB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8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C46DA52C-212A-4D24-8E6B-C8CB0D9D98BE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R:\Templates &amp; Logos\Logos\FEFE Logos from Debra Bowles\FEFE Logo Clear Background.png"/>
          <p:cNvPicPr/>
          <p:nvPr/>
        </p:nvPicPr>
        <p:blipFill>
          <a:blip r:embed="rId6"/>
          <a:stretch/>
        </p:blipFill>
        <p:spPr>
          <a:xfrm>
            <a:off x="2666880" y="5562720"/>
            <a:ext cx="1067040" cy="59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R:\TCAI\Templates &amp; Logos\Logos\TCAI ICON_final.png"/>
          <p:cNvPicPr/>
          <p:nvPr/>
        </p:nvPicPr>
        <p:blipFill>
          <a:blip r:embed="rId7"/>
          <a:stretch/>
        </p:blipFill>
        <p:spPr>
          <a:xfrm>
            <a:off x="6705720" y="579132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35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8238884F-12C4-41FB-AF2A-7F9396EB7D72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0" descr="TCA-New-Logo-3-color"/>
          <p:cNvPicPr/>
          <p:nvPr/>
        </p:nvPicPr>
        <p:blipFill>
          <a:blip r:embed="rId6">
            <a:grayscl/>
          </a:blip>
          <a:stretch/>
        </p:blipFill>
        <p:spPr>
          <a:xfrm>
            <a:off x="7915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81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8AAA6980-D531-435C-92B1-D5EF820BB7F1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731F-CBDE-4309-96D2-327544B01C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229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960549FC-DDF3-4BA4-9C31-A0D2353F9B8E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5EB9-A83A-4602-B5BD-C04FA88072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277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9BF85800-EABA-4462-BF8F-C1A93685911B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B90C-00E7-452B-BABD-98D00FB485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325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5A48050A-3FAE-4CF3-AFC2-DF01CD35F4C3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4747-1F46-4FAD-9971-AA9CEA1F3F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37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D635A00A-0682-47DC-8196-EF1F3A757BC9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378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4EE8-384C-4EF0-B45D-846AE68CFA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th.physik.uni-frankfurt.de/~jr/gif/phys/einstein4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81080" y="114264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Introduction to Investing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2286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"Take Charge of Your Finances" Advanced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Stock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60" name="Content Placeholder 1" descr=""/>
          <p:cNvPicPr/>
          <p:nvPr/>
        </p:nvPicPr>
        <p:blipFill>
          <a:blip r:embed="rId1"/>
          <a:stretch/>
        </p:blipFill>
        <p:spPr>
          <a:xfrm>
            <a:off x="2041560" y="450720"/>
            <a:ext cx="6664320" cy="4535640"/>
          </a:xfrm>
          <a:prstGeom prst="rect">
            <a:avLst/>
          </a:prstGeom>
          <a:ln w="0">
            <a:noFill/>
          </a:ln>
        </p:spPr>
      </p:pic>
      <p:sp>
        <p:nvSpPr>
          <p:cNvPr id="1061" name="TextBox 3"/>
          <p:cNvSpPr/>
          <p:nvPr/>
        </p:nvSpPr>
        <p:spPr>
          <a:xfrm>
            <a:off x="152280" y="3313080"/>
            <a:ext cx="175284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Usually a stockholder owns a very small part of a comp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2" name="Picture 3" descr=""/>
          <p:cNvPicPr/>
          <p:nvPr/>
        </p:nvPicPr>
        <p:blipFill>
          <a:blip r:embed="rId2"/>
          <a:stretch/>
        </p:blipFill>
        <p:spPr>
          <a:xfrm>
            <a:off x="4551480" y="4322880"/>
            <a:ext cx="1849320" cy="1849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6" descr=""/>
          <p:cNvPicPr/>
          <p:nvPr/>
        </p:nvPicPr>
        <p:blipFill>
          <a:blip r:embed="rId3"/>
          <a:stretch/>
        </p:blipFill>
        <p:spPr>
          <a:xfrm>
            <a:off x="603360" y="3382920"/>
            <a:ext cx="787320" cy="944640"/>
          </a:xfrm>
          <a:prstGeom prst="rect">
            <a:avLst/>
          </a:prstGeom>
          <a:ln w="0">
            <a:noFill/>
          </a:ln>
        </p:spPr>
      </p:pic>
      <p:sp>
        <p:nvSpPr>
          <p:cNvPr id="1064" name="Rectangle 4"/>
          <p:cNvSpPr/>
          <p:nvPr/>
        </p:nvSpPr>
        <p:spPr>
          <a:xfrm>
            <a:off x="2590920" y="251460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share of ownership in a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Rectangle 5"/>
          <p:cNvSpPr/>
          <p:nvPr/>
        </p:nvSpPr>
        <p:spPr>
          <a:xfrm>
            <a:off x="6276960" y="2714760"/>
            <a:ext cx="256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wner of the st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Content Placeholder 3" descr=""/>
          <p:cNvPicPr/>
          <p:nvPr/>
        </p:nvPicPr>
        <p:blipFill>
          <a:blip r:embed="rId1"/>
          <a:stretch/>
        </p:blipFill>
        <p:spPr>
          <a:xfrm>
            <a:off x="1974960" y="1365120"/>
            <a:ext cx="6870600" cy="4889520"/>
          </a:xfrm>
          <a:prstGeom prst="rect">
            <a:avLst/>
          </a:prstGeom>
          <a:ln w="0">
            <a:noFill/>
          </a:ln>
        </p:spPr>
      </p:pic>
      <p:grpSp>
        <p:nvGrpSpPr>
          <p:cNvPr id="1067" name="Group 11"/>
          <p:cNvGrpSpPr/>
          <p:nvPr/>
        </p:nvGrpSpPr>
        <p:grpSpPr>
          <a:xfrm>
            <a:off x="4952880" y="3886200"/>
            <a:ext cx="1905120" cy="1393920"/>
            <a:chOff x="4952880" y="3886200"/>
            <a:chExt cx="1905120" cy="1393920"/>
          </a:xfrm>
        </p:grpSpPr>
        <p:sp>
          <p:nvSpPr>
            <p:cNvPr id="1068" name="Rounded Rectangle 12"/>
            <p:cNvSpPr/>
            <p:nvPr/>
          </p:nvSpPr>
          <p:spPr>
            <a:xfrm>
              <a:off x="4952880" y="3886200"/>
              <a:ext cx="1905120" cy="139392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009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Rounded Rectangle 4"/>
            <p:cNvSpPr/>
            <p:nvPr/>
          </p:nvSpPr>
          <p:spPr>
            <a:xfrm>
              <a:off x="4971600" y="3927240"/>
              <a:ext cx="186732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eturn on Stock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71" name="Rectangle 2"/>
          <p:cNvSpPr/>
          <p:nvPr/>
        </p:nvSpPr>
        <p:spPr>
          <a:xfrm>
            <a:off x="4952880" y="3962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f stock is sold for a market price higher than what was pa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1981080" y="25909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hare of profits distributed in cash to stock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Rectangle 7"/>
          <p:cNvSpPr/>
          <p:nvPr/>
        </p:nvSpPr>
        <p:spPr>
          <a:xfrm>
            <a:off x="2089080" y="408780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ockholder may or may not receive dividends- depends on company pro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Rectangle 8"/>
          <p:cNvSpPr/>
          <p:nvPr/>
        </p:nvSpPr>
        <p:spPr>
          <a:xfrm>
            <a:off x="5137200" y="270504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urrent price that a buyer is willing to pay for st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5" name="Group 14"/>
          <p:cNvGrpSpPr/>
          <p:nvPr/>
        </p:nvGrpSpPr>
        <p:grpSpPr>
          <a:xfrm>
            <a:off x="6972480" y="3886200"/>
            <a:ext cx="1866600" cy="1373040"/>
            <a:chOff x="6972480" y="3886200"/>
            <a:chExt cx="1866600" cy="1373040"/>
          </a:xfrm>
        </p:grpSpPr>
        <p:sp>
          <p:nvSpPr>
            <p:cNvPr id="1076" name="Rounded Rectangle 15"/>
            <p:cNvSpPr/>
            <p:nvPr/>
          </p:nvSpPr>
          <p:spPr>
            <a:xfrm>
              <a:off x="6972480" y="3886200"/>
              <a:ext cx="1866600" cy="13730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009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Rounded Rectangle 4"/>
            <p:cNvSpPr/>
            <p:nvPr/>
          </p:nvSpPr>
          <p:spPr>
            <a:xfrm>
              <a:off x="6991200" y="3925800"/>
              <a:ext cx="1828800" cy="12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702612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f stock is sold for a market price lower than what was pa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9" name="Group 17"/>
          <p:cNvGrpSpPr/>
          <p:nvPr/>
        </p:nvGrpSpPr>
        <p:grpSpPr>
          <a:xfrm>
            <a:off x="4987800" y="5475240"/>
            <a:ext cx="1889280" cy="696960"/>
            <a:chOff x="4987800" y="5475240"/>
            <a:chExt cx="1889280" cy="696960"/>
          </a:xfrm>
        </p:grpSpPr>
        <p:sp>
          <p:nvSpPr>
            <p:cNvPr id="1080" name="Rounded Rectangle 18"/>
            <p:cNvSpPr/>
            <p:nvPr/>
          </p:nvSpPr>
          <p:spPr>
            <a:xfrm>
              <a:off x="4987800" y="5475240"/>
              <a:ext cx="1889280" cy="69696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009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Rounded Rectangle 4"/>
            <p:cNvSpPr/>
            <p:nvPr/>
          </p:nvSpPr>
          <p:spPr>
            <a:xfrm>
              <a:off x="5006520" y="5495760"/>
              <a:ext cx="185148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2" name="Rectangle 5"/>
          <p:cNvSpPr/>
          <p:nvPr/>
        </p:nvSpPr>
        <p:spPr>
          <a:xfrm>
            <a:off x="5060880" y="54864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tockholder will receive a retu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3" name="Group 20"/>
          <p:cNvGrpSpPr/>
          <p:nvPr/>
        </p:nvGrpSpPr>
        <p:grpSpPr>
          <a:xfrm>
            <a:off x="6970680" y="5484960"/>
            <a:ext cx="1889280" cy="698400"/>
            <a:chOff x="6970680" y="5484960"/>
            <a:chExt cx="1889280" cy="698400"/>
          </a:xfrm>
        </p:grpSpPr>
        <p:sp>
          <p:nvSpPr>
            <p:cNvPr id="1084" name="Rounded Rectangle 21"/>
            <p:cNvSpPr/>
            <p:nvPr/>
          </p:nvSpPr>
          <p:spPr>
            <a:xfrm>
              <a:off x="6970680" y="5484960"/>
              <a:ext cx="1889280" cy="69840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009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Rounded Rectangle 4"/>
            <p:cNvSpPr/>
            <p:nvPr/>
          </p:nvSpPr>
          <p:spPr>
            <a:xfrm>
              <a:off x="6989400" y="5505480"/>
              <a:ext cx="1851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6" name="Rectangle 9"/>
          <p:cNvSpPr/>
          <p:nvPr/>
        </p:nvSpPr>
        <p:spPr>
          <a:xfrm>
            <a:off x="7066080" y="550404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tockholder will lose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Down Arrow 10"/>
          <p:cNvSpPr/>
          <p:nvPr/>
        </p:nvSpPr>
        <p:spPr>
          <a:xfrm>
            <a:off x="5749920" y="5162400"/>
            <a:ext cx="298440" cy="34308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6600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Down Arrow 24"/>
          <p:cNvSpPr/>
          <p:nvPr/>
        </p:nvSpPr>
        <p:spPr>
          <a:xfrm>
            <a:off x="7756560" y="5164200"/>
            <a:ext cx="298440" cy="3427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6600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TextBox 23"/>
          <p:cNvSpPr/>
          <p:nvPr/>
        </p:nvSpPr>
        <p:spPr>
          <a:xfrm>
            <a:off x="76320" y="28954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TextBox 26"/>
          <p:cNvSpPr/>
          <p:nvPr/>
        </p:nvSpPr>
        <p:spPr>
          <a:xfrm>
            <a:off x="87480" y="45720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receiv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Bond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graphicFrame>
        <p:nvGraphicFramePr>
          <p:cNvPr id="1092" name=""/>
          <p:cNvGraphicFramePr/>
          <p:nvPr/>
        </p:nvGraphicFramePr>
        <p:xfrm>
          <a:off x="2209680" y="1600200"/>
          <a:ext cx="6629400" cy="4229280"/>
        </p:xfrm>
        <a:graphic>
          <a:graphicData uri="http://schemas.openxmlformats.org/drawingml/2006/table">
            <a:tbl>
              <a:tblPr/>
              <a:tblGrid>
                <a:gridCol w="1905120"/>
                <a:gridCol w="472428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solidFill>
                      <a:srgbClr val="ffe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104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e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56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3" name="Rectangle 4"/>
          <p:cNvSpPr/>
          <p:nvPr/>
        </p:nvSpPr>
        <p:spPr>
          <a:xfrm>
            <a:off x="419112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Form of lending to a company or the government (city, state, or feder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Rectangle 5"/>
          <p:cNvSpPr/>
          <p:nvPr/>
        </p:nvSpPr>
        <p:spPr>
          <a:xfrm>
            <a:off x="4219560" y="32004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Annual interest is paid to inve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6"/>
          <p:cNvSpPr/>
          <p:nvPr/>
        </p:nvSpPr>
        <p:spPr>
          <a:xfrm>
            <a:off x="4219560" y="43434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Once the 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maturity date 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is reached, the principal is repaid to the bondhol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7"/>
          <p:cNvSpPr/>
          <p:nvPr/>
        </p:nvSpPr>
        <p:spPr>
          <a:xfrm>
            <a:off x="152280" y="3200400"/>
            <a:ext cx="175284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onds are less risky than stocks but usually do not have the potential to earn as high of a retu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7" name="Picture 6" descr=""/>
          <p:cNvPicPr/>
          <p:nvPr/>
        </p:nvPicPr>
        <p:blipFill>
          <a:blip r:embed="rId1"/>
          <a:stretch/>
        </p:blipFill>
        <p:spPr>
          <a:xfrm>
            <a:off x="603360" y="3273480"/>
            <a:ext cx="787320" cy="944640"/>
          </a:xfrm>
          <a:prstGeom prst="rect">
            <a:avLst/>
          </a:prstGeom>
          <a:ln w="0">
            <a:noFill/>
          </a:ln>
        </p:spPr>
      </p:pic>
      <p:sp>
        <p:nvSpPr>
          <p:cNvPr id="1098" name="Rectangle 9"/>
          <p:cNvSpPr/>
          <p:nvPr/>
        </p:nvSpPr>
        <p:spPr>
          <a:xfrm>
            <a:off x="2057400" y="2101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Rectangle 10"/>
          <p:cNvSpPr/>
          <p:nvPr/>
        </p:nvSpPr>
        <p:spPr>
          <a:xfrm>
            <a:off x="2209680" y="4154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Re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Right Arrow 2"/>
          <p:cNvSpPr/>
          <p:nvPr/>
        </p:nvSpPr>
        <p:spPr>
          <a:xfrm>
            <a:off x="3886200" y="2238480"/>
            <a:ext cx="380880" cy="261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ight Arrow 14"/>
          <p:cNvSpPr/>
          <p:nvPr/>
        </p:nvSpPr>
        <p:spPr>
          <a:xfrm rot="20472600">
            <a:off x="3633480" y="3655800"/>
            <a:ext cx="620640" cy="303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ight Arrow 15"/>
          <p:cNvSpPr/>
          <p:nvPr/>
        </p:nvSpPr>
        <p:spPr>
          <a:xfrm rot="1288200">
            <a:off x="3634920" y="4782960"/>
            <a:ext cx="620640" cy="30348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Diagram 1" descr=""/>
          <p:cNvPicPr/>
          <p:nvPr/>
        </p:nvPicPr>
        <p:blipFill>
          <a:blip r:embed="rId1"/>
          <a:stretch/>
        </p:blipFill>
        <p:spPr>
          <a:xfrm>
            <a:off x="3578400" y="1689120"/>
            <a:ext cx="7022880" cy="4162320"/>
          </a:xfrm>
          <a:prstGeom prst="rect">
            <a:avLst/>
          </a:prstGeom>
          <a:ln w="0">
            <a:noFill/>
          </a:ln>
        </p:spPr>
      </p:pic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Mutual Fund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1980720" y="1828440"/>
            <a:ext cx="3048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Mutual fund- </a:t>
            </a: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when a company combines the funds of many different investors and then invests that money in a diversified portfolio of stocks and bonds</a:t>
            </a:r>
            <a:endParaRPr b="1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06" name="TextBox 3"/>
          <p:cNvSpPr/>
          <p:nvPr/>
        </p:nvSpPr>
        <p:spPr>
          <a:xfrm>
            <a:off x="152280" y="3276720"/>
            <a:ext cx="175284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ake sure to research the fees charged by a mutual f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Content Placeholder 2"/>
          <p:cNvSpPr/>
          <p:nvPr/>
        </p:nvSpPr>
        <p:spPr>
          <a:xfrm>
            <a:off x="4524480" y="2743200"/>
            <a:ext cx="2438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Reduces investment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Content Placeholder 2"/>
          <p:cNvSpPr/>
          <p:nvPr/>
        </p:nvSpPr>
        <p:spPr>
          <a:xfrm>
            <a:off x="6810480" y="391464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Fees may be hi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Content Placeholder 2"/>
          <p:cNvSpPr/>
          <p:nvPr/>
        </p:nvSpPr>
        <p:spPr>
          <a:xfrm>
            <a:off x="4768920" y="386064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Saves investors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0" name="Picture 6" descr=""/>
          <p:cNvPicPr/>
          <p:nvPr/>
        </p:nvPicPr>
        <p:blipFill>
          <a:blip r:embed="rId2"/>
          <a:stretch/>
        </p:blipFill>
        <p:spPr>
          <a:xfrm>
            <a:off x="603360" y="3346560"/>
            <a:ext cx="78732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Index Fund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12" name="Diagram 1" descr=""/>
          <p:cNvPicPr/>
          <p:nvPr/>
        </p:nvPicPr>
        <p:blipFill>
          <a:blip r:embed="rId1"/>
          <a:stretch/>
        </p:blipFill>
        <p:spPr>
          <a:xfrm>
            <a:off x="2114640" y="1450800"/>
            <a:ext cx="3968640" cy="3803760"/>
          </a:xfrm>
          <a:prstGeom prst="rect">
            <a:avLst/>
          </a:prstGeom>
          <a:ln w="0">
            <a:noFill/>
          </a:ln>
        </p:spPr>
      </p:pic>
      <p:sp>
        <p:nvSpPr>
          <p:cNvPr id="1113" name="Rectangle 5"/>
          <p:cNvSpPr/>
          <p:nvPr/>
        </p:nvSpPr>
        <p:spPr>
          <a:xfrm>
            <a:off x="5638680" y="3429000"/>
            <a:ext cx="3200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  <a:ea typeface="Arial"/>
              </a:rPr>
              <a:t>A mutual fund that invests in the stocks and bonds that make up an ind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6"/>
          <p:cNvSpPr/>
          <p:nvPr/>
        </p:nvSpPr>
        <p:spPr>
          <a:xfrm>
            <a:off x="4381560" y="1832040"/>
            <a:ext cx="3429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A group of similar stocks and bonds- Standard and Poor 5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Index Fund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16" name="TextBox 3"/>
          <p:cNvSpPr/>
          <p:nvPr/>
        </p:nvSpPr>
        <p:spPr>
          <a:xfrm>
            <a:off x="152280" y="3352680"/>
            <a:ext cx="175284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is the difference between a mutual fund and an index fu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7" name="Picture 2" descr=""/>
          <p:cNvPicPr/>
          <p:nvPr/>
        </p:nvPicPr>
        <p:blipFill>
          <a:blip r:embed="rId1"/>
          <a:stretch/>
        </p:blipFill>
        <p:spPr>
          <a:xfrm>
            <a:off x="590400" y="3425760"/>
            <a:ext cx="866880" cy="847800"/>
          </a:xfrm>
          <a:prstGeom prst="rect">
            <a:avLst/>
          </a:prstGeom>
          <a:ln w="0">
            <a:noFill/>
          </a:ln>
        </p:spPr>
      </p:pic>
      <p:pic>
        <p:nvPicPr>
          <p:cNvPr id="1118" name="Diagram 8" descr=""/>
          <p:cNvPicPr/>
          <p:nvPr/>
        </p:nvPicPr>
        <p:blipFill>
          <a:blip r:embed="rId2"/>
          <a:stretch/>
        </p:blipFill>
        <p:spPr>
          <a:xfrm>
            <a:off x="1749600" y="1200240"/>
            <a:ext cx="7400880" cy="515124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7"/>
          <p:cNvSpPr/>
          <p:nvPr/>
        </p:nvSpPr>
        <p:spPr>
          <a:xfrm>
            <a:off x="2959200" y="27464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High divers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10"/>
          <p:cNvSpPr/>
          <p:nvPr/>
        </p:nvSpPr>
        <p:spPr>
          <a:xfrm>
            <a:off x="3044880" y="405756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Calibri"/>
              </a:rPr>
              <a:t>Usually charge lower fees than mutual f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Box 11"/>
          <p:cNvSpPr/>
          <p:nvPr/>
        </p:nvSpPr>
        <p:spPr>
          <a:xfrm>
            <a:off x="5711760" y="400356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Still charge f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eal Estate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Any residential or commercial property or land as well as the rights accompanying that land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A family home is usually not considered an investment asset 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an be risky and more time consuming but has potential for large returns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4" name="TextBox 3"/>
          <p:cNvSpPr/>
          <p:nvPr/>
        </p:nvSpPr>
        <p:spPr>
          <a:xfrm>
            <a:off x="106200" y="3048120"/>
            <a:ext cx="179892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xamples of real estate investments include rental units and commercial proper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5" name="Picture 6" descr=""/>
          <p:cNvPicPr/>
          <p:nvPr/>
        </p:nvPicPr>
        <p:blipFill>
          <a:blip r:embed="rId1"/>
          <a:stretch/>
        </p:blipFill>
        <p:spPr>
          <a:xfrm>
            <a:off x="682560" y="3121200"/>
            <a:ext cx="78120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Speculative Investment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27" name="Content Placeholder 3" descr=""/>
          <p:cNvPicPr/>
          <p:nvPr/>
        </p:nvPicPr>
        <p:blipFill>
          <a:blip r:embed="rId1"/>
          <a:stretch/>
        </p:blipFill>
        <p:spPr>
          <a:xfrm>
            <a:off x="2030400" y="1809720"/>
            <a:ext cx="6765840" cy="3768840"/>
          </a:xfrm>
          <a:prstGeom prst="rect">
            <a:avLst/>
          </a:prstGeom>
          <a:ln w="0">
            <a:noFill/>
          </a:ln>
        </p:spPr>
      </p:pic>
      <p:sp>
        <p:nvSpPr>
          <p:cNvPr id="1128" name="Down Arrow 2"/>
          <p:cNvSpPr/>
          <p:nvPr/>
        </p:nvSpPr>
        <p:spPr>
          <a:xfrm>
            <a:off x="2666880" y="350532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b0f0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Down Arrow 5"/>
          <p:cNvSpPr/>
          <p:nvPr/>
        </p:nvSpPr>
        <p:spPr>
          <a:xfrm>
            <a:off x="4419720" y="3505320"/>
            <a:ext cx="30456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b0f0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Down Arrow 6"/>
          <p:cNvSpPr/>
          <p:nvPr/>
        </p:nvSpPr>
        <p:spPr>
          <a:xfrm>
            <a:off x="6095880" y="350532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b0f0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Down Arrow 8"/>
          <p:cNvSpPr/>
          <p:nvPr/>
        </p:nvSpPr>
        <p:spPr>
          <a:xfrm>
            <a:off x="7772400" y="350532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b0f0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4"/>
          <p:cNvSpPr/>
          <p:nvPr/>
        </p:nvSpPr>
        <p:spPr>
          <a:xfrm>
            <a:off x="2182680" y="440856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Rectangle 9"/>
          <p:cNvSpPr/>
          <p:nvPr/>
        </p:nvSpPr>
        <p:spPr>
          <a:xfrm>
            <a:off x="3872520" y="4400640"/>
            <a:ext cx="13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Rectangle 10"/>
          <p:cNvSpPr/>
          <p:nvPr/>
        </p:nvSpPr>
        <p:spPr>
          <a:xfrm>
            <a:off x="5194440" y="4267080"/>
            <a:ext cx="21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rcial Pa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Rectangle 11"/>
          <p:cNvSpPr/>
          <p:nvPr/>
        </p:nvSpPr>
        <p:spPr>
          <a:xfrm>
            <a:off x="7158960" y="440064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6629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Financial Risk Pyramid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37" name="Diagram 3" descr=""/>
          <p:cNvPicPr/>
          <p:nvPr/>
        </p:nvPicPr>
        <p:blipFill>
          <a:blip r:embed="rId1"/>
          <a:stretch/>
        </p:blipFill>
        <p:spPr>
          <a:xfrm>
            <a:off x="974880" y="1627200"/>
            <a:ext cx="7005600" cy="46213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2"/>
          <p:cNvSpPr/>
          <p:nvPr/>
        </p:nvSpPr>
        <p:spPr>
          <a:xfrm>
            <a:off x="6068880" y="1824120"/>
            <a:ext cx="2084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peculative Investment Too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AutoShape 3"/>
          <p:cNvSpPr/>
          <p:nvPr/>
        </p:nvSpPr>
        <p:spPr>
          <a:xfrm rot="18491400">
            <a:off x="1094400" y="3555000"/>
            <a:ext cx="2982960" cy="237960"/>
          </a:xfrm>
          <a:prstGeom prst="rightArrow">
            <a:avLst>
              <a:gd name="adj1" fmla="val 50000"/>
              <a:gd name="adj2" fmla="val 26109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 Box 4"/>
          <p:cNvSpPr/>
          <p:nvPr/>
        </p:nvSpPr>
        <p:spPr>
          <a:xfrm>
            <a:off x="44280" y="2644920"/>
            <a:ext cx="220536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ing potential for higher retu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ing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Box 2"/>
          <p:cNvSpPr/>
          <p:nvPr/>
        </p:nvSpPr>
        <p:spPr>
          <a:xfrm>
            <a:off x="7543800" y="5122800"/>
            <a:ext cx="1849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avings Too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 Box 2"/>
          <p:cNvSpPr/>
          <p:nvPr/>
        </p:nvSpPr>
        <p:spPr>
          <a:xfrm>
            <a:off x="1255680" y="54054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hecking Acc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Text Box 2"/>
          <p:cNvSpPr/>
          <p:nvPr/>
        </p:nvSpPr>
        <p:spPr>
          <a:xfrm>
            <a:off x="2509920" y="5411880"/>
            <a:ext cx="136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avings Acc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 Box 2"/>
          <p:cNvSpPr/>
          <p:nvPr/>
        </p:nvSpPr>
        <p:spPr>
          <a:xfrm>
            <a:off x="3487680" y="4962600"/>
            <a:ext cx="17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oney Market Deposit Acc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 Box 2"/>
          <p:cNvSpPr/>
          <p:nvPr/>
        </p:nvSpPr>
        <p:spPr>
          <a:xfrm>
            <a:off x="4998960" y="5384880"/>
            <a:ext cx="137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ertificate of Depos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 Box 2"/>
          <p:cNvSpPr/>
          <p:nvPr/>
        </p:nvSpPr>
        <p:spPr>
          <a:xfrm>
            <a:off x="6248520" y="53769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avings Bo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Text Box 2"/>
          <p:cNvSpPr/>
          <p:nvPr/>
        </p:nvSpPr>
        <p:spPr>
          <a:xfrm>
            <a:off x="7162920" y="3751200"/>
            <a:ext cx="1871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nvestment Too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 Box 2"/>
          <p:cNvSpPr/>
          <p:nvPr/>
        </p:nvSpPr>
        <p:spPr>
          <a:xfrm>
            <a:off x="3614760" y="4599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o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 Box 2"/>
          <p:cNvSpPr/>
          <p:nvPr/>
        </p:nvSpPr>
        <p:spPr>
          <a:xfrm>
            <a:off x="2995560" y="34513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 Box 2"/>
          <p:cNvSpPr/>
          <p:nvPr/>
        </p:nvSpPr>
        <p:spPr>
          <a:xfrm>
            <a:off x="3108240" y="3917880"/>
            <a:ext cx="108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utual Fu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Box 2"/>
          <p:cNvSpPr/>
          <p:nvPr/>
        </p:nvSpPr>
        <p:spPr>
          <a:xfrm>
            <a:off x="4194000" y="34574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al E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Right Brace 2"/>
          <p:cNvSpPr/>
          <p:nvPr/>
        </p:nvSpPr>
        <p:spPr>
          <a:xfrm>
            <a:off x="7543800" y="4998960"/>
            <a:ext cx="468360" cy="1216080"/>
          </a:xfrm>
          <a:custGeom>
            <a:avLst/>
            <a:gdLst>
              <a:gd name="textAreaLeft" fmla="*/ 0 w 468360"/>
              <a:gd name="textAreaRight" fmla="*/ 169200 w 468360"/>
              <a:gd name="textAreaTop" fmla="*/ 11880 h 1216080"/>
              <a:gd name="textAreaBottom" fmla="*/ 1204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47"/>
                  <a:pt x="10800" y="693"/>
                </a:cubicBezTo>
                <a:lnTo>
                  <a:pt x="10800" y="10107"/>
                </a:lnTo>
                <a:cubicBezTo>
                  <a:pt x="10800" y="10454"/>
                  <a:pt x="16200" y="10800"/>
                  <a:pt x="21600" y="10800"/>
                </a:cubicBezTo>
                <a:cubicBezTo>
                  <a:pt x="16200" y="10800"/>
                  <a:pt x="10800" y="11147"/>
                  <a:pt x="10800" y="11493"/>
                </a:cubicBezTo>
                <a:lnTo>
                  <a:pt x="10800" y="20907"/>
                </a:lnTo>
                <a:cubicBezTo>
                  <a:pt x="10800" y="2125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66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ight Brace 4"/>
          <p:cNvSpPr/>
          <p:nvPr/>
        </p:nvSpPr>
        <p:spPr>
          <a:xfrm>
            <a:off x="6694560" y="3446640"/>
            <a:ext cx="544320" cy="1501560"/>
          </a:xfrm>
          <a:custGeom>
            <a:avLst/>
            <a:gdLst>
              <a:gd name="textAreaLeft" fmla="*/ 0 w 544320"/>
              <a:gd name="textAreaRight" fmla="*/ 196560 w 544320"/>
              <a:gd name="textAreaTop" fmla="*/ 14040 h 1501560"/>
              <a:gd name="textAreaBottom" fmla="*/ 1487520 h 15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7"/>
                  <a:pt x="10800" y="653"/>
                </a:cubicBezTo>
                <a:lnTo>
                  <a:pt x="10800" y="10147"/>
                </a:lnTo>
                <a:cubicBezTo>
                  <a:pt x="10800" y="10474"/>
                  <a:pt x="16200" y="10800"/>
                  <a:pt x="21600" y="10800"/>
                </a:cubicBezTo>
                <a:cubicBezTo>
                  <a:pt x="16200" y="10800"/>
                  <a:pt x="10800" y="11127"/>
                  <a:pt x="10800" y="11453"/>
                </a:cubicBezTo>
                <a:lnTo>
                  <a:pt x="10800" y="20947"/>
                </a:lnTo>
                <a:cubicBezTo>
                  <a:pt x="10800" y="2127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f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ight Brace 5"/>
          <p:cNvSpPr/>
          <p:nvPr/>
        </p:nvSpPr>
        <p:spPr>
          <a:xfrm>
            <a:off x="5715000" y="1600200"/>
            <a:ext cx="404640" cy="1846440"/>
          </a:xfrm>
          <a:custGeom>
            <a:avLst/>
            <a:gdLst>
              <a:gd name="textAreaLeft" fmla="*/ 0 w 404640"/>
              <a:gd name="textAreaRight" fmla="*/ 146160 w 404640"/>
              <a:gd name="textAreaTop" fmla="*/ 10440 h 1846440"/>
              <a:gd name="textAreaBottom" fmla="*/ 1836000 h 184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8"/>
                  <a:pt x="10800" y="395"/>
                </a:cubicBezTo>
                <a:lnTo>
                  <a:pt x="10800" y="10405"/>
                </a:lnTo>
                <a:cubicBezTo>
                  <a:pt x="10800" y="10603"/>
                  <a:pt x="16200" y="10800"/>
                  <a:pt x="21600" y="10800"/>
                </a:cubicBezTo>
                <a:cubicBezTo>
                  <a:pt x="16200" y="10800"/>
                  <a:pt x="10800" y="10998"/>
                  <a:pt x="10800" y="11195"/>
                </a:cubicBezTo>
                <a:lnTo>
                  <a:pt x="10800" y="21205"/>
                </a:lnTo>
                <a:cubicBezTo>
                  <a:pt x="10800" y="2140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2d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Box 2"/>
          <p:cNvSpPr/>
          <p:nvPr/>
        </p:nvSpPr>
        <p:spPr>
          <a:xfrm>
            <a:off x="3036960" y="3059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Text Box 2"/>
          <p:cNvSpPr/>
          <p:nvPr/>
        </p:nvSpPr>
        <p:spPr>
          <a:xfrm>
            <a:off x="4191120" y="3059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llecti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 Box 2"/>
          <p:cNvSpPr/>
          <p:nvPr/>
        </p:nvSpPr>
        <p:spPr>
          <a:xfrm>
            <a:off x="3684600" y="20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u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3684600" y="24796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mmercial Pa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Box 2"/>
          <p:cNvSpPr/>
          <p:nvPr/>
        </p:nvSpPr>
        <p:spPr>
          <a:xfrm>
            <a:off x="4560840" y="39006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dex Fu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Rectangle 6"/>
          <p:cNvSpPr/>
          <p:nvPr/>
        </p:nvSpPr>
        <p:spPr>
          <a:xfrm>
            <a:off x="1795320" y="1062000"/>
            <a:ext cx="6978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risk level for specific investment tools may v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1" name="Diagram 10" descr=""/>
          <p:cNvPicPr/>
          <p:nvPr/>
        </p:nvPicPr>
        <p:blipFill>
          <a:blip r:embed="rId1"/>
          <a:stretch/>
        </p:blipFill>
        <p:spPr>
          <a:xfrm>
            <a:off x="2193840" y="1305000"/>
            <a:ext cx="6664320" cy="4962600"/>
          </a:xfrm>
          <a:prstGeom prst="rect">
            <a:avLst/>
          </a:prstGeom>
          <a:ln w="0">
            <a:noFill/>
          </a:ln>
        </p:spPr>
      </p:pic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Investment Philosophy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2085480" y="14158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Everyone has a tolerance level for the amount of risk they are willing to take on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4" name="Content Placeholder 2"/>
          <p:cNvSpPr/>
          <p:nvPr/>
        </p:nvSpPr>
        <p:spPr>
          <a:xfrm>
            <a:off x="2174760" y="3279600"/>
            <a:ext cx="662940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f0"/>
                </a:solidFill>
                <a:uFillTx/>
                <a:latin typeface="Calibri"/>
                <a:ea typeface="Calibri"/>
              </a:rPr>
              <a:t>Investment Philosophy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- 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an individual’s general approach to investment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5"/>
          <p:cNvSpPr/>
          <p:nvPr/>
        </p:nvSpPr>
        <p:spPr>
          <a:xfrm>
            <a:off x="108000" y="2971800"/>
            <a:ext cx="17524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greater the risk a person is willing to make on an investment, the greater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otent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return will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6" name="Picture 6" descr=""/>
          <p:cNvPicPr/>
          <p:nvPr/>
        </p:nvPicPr>
        <p:blipFill>
          <a:blip r:embed="rId2"/>
          <a:stretch/>
        </p:blipFill>
        <p:spPr>
          <a:xfrm>
            <a:off x="628560" y="3041640"/>
            <a:ext cx="779400" cy="944640"/>
          </a:xfrm>
          <a:prstGeom prst="rect">
            <a:avLst/>
          </a:prstGeom>
          <a:ln w="0">
            <a:noFill/>
          </a:ln>
        </p:spPr>
      </p:pic>
      <p:sp>
        <p:nvSpPr>
          <p:cNvPr id="1167" name="Content Placeholder 2"/>
          <p:cNvSpPr/>
          <p:nvPr/>
        </p:nvSpPr>
        <p:spPr>
          <a:xfrm>
            <a:off x="2128680" y="5124600"/>
            <a:ext cx="662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Generally divided into three categories: conservative, moderate, aggres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2209680" y="1905120"/>
            <a:ext cx="6629400" cy="4038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Saving and Investing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1980720" y="205740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Once an appropriate amount of 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liquid assets are reached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7" name="Down Arrow 3"/>
          <p:cNvSpPr/>
          <p:nvPr/>
        </p:nvSpPr>
        <p:spPr>
          <a:xfrm>
            <a:off x="5029200" y="3429000"/>
            <a:ext cx="838080" cy="1066680"/>
          </a:xfrm>
          <a:prstGeom prst="down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9360">
            <a:solidFill>
              <a:srgbClr val="8fce4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Content Placeholder 2"/>
          <p:cNvSpPr/>
          <p:nvPr/>
        </p:nvSpPr>
        <p:spPr>
          <a:xfrm>
            <a:off x="2209680" y="4648320"/>
            <a:ext cx="6629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Recommend refocusing goals from saving to inv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TextBox 5"/>
          <p:cNvSpPr/>
          <p:nvPr/>
        </p:nvSpPr>
        <p:spPr>
          <a:xfrm>
            <a:off x="228600" y="3048120"/>
            <a:ext cx="144792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membe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purpose of savings is to develop financial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0" name="Picture 6" descr=""/>
          <p:cNvPicPr/>
          <p:nvPr/>
        </p:nvPicPr>
        <p:blipFill>
          <a:blip r:embed="rId1"/>
          <a:stretch/>
        </p:blipFill>
        <p:spPr>
          <a:xfrm>
            <a:off x="530280" y="3121200"/>
            <a:ext cx="78084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Portfolio Diversificatio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69" name="Content Placeholder 3" descr=""/>
          <p:cNvPicPr/>
          <p:nvPr/>
        </p:nvPicPr>
        <p:blipFill>
          <a:blip r:embed="rId1"/>
          <a:stretch/>
        </p:blipFill>
        <p:spPr>
          <a:xfrm>
            <a:off x="2041560" y="1706400"/>
            <a:ext cx="6664320" cy="4561200"/>
          </a:xfrm>
          <a:prstGeom prst="rect">
            <a:avLst/>
          </a:prstGeom>
          <a:ln w="0">
            <a:noFill/>
          </a:ln>
        </p:spPr>
      </p:pic>
      <p:sp>
        <p:nvSpPr>
          <p:cNvPr id="1170" name="TextBox 4"/>
          <p:cNvSpPr/>
          <p:nvPr/>
        </p:nvSpPr>
        <p:spPr>
          <a:xfrm>
            <a:off x="2190600" y="177156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Calibri"/>
              </a:rPr>
              <a:t>Portfolio Diversification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duces risk by spreading investment money among a wide array of invest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5"/>
          <p:cNvSpPr/>
          <p:nvPr/>
        </p:nvSpPr>
        <p:spPr>
          <a:xfrm>
            <a:off x="2590920" y="337176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reates a collection of investments that will provide an acceptable return with an acceptable exposure to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6"/>
          <p:cNvSpPr/>
          <p:nvPr/>
        </p:nvSpPr>
        <p:spPr>
          <a:xfrm>
            <a:off x="3305160" y="5157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ssists with inves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isk re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7"/>
          <p:cNvSpPr/>
          <p:nvPr/>
        </p:nvSpPr>
        <p:spPr>
          <a:xfrm>
            <a:off x="152280" y="3505320"/>
            <a:ext cx="182880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ferred to as “Building a Portfolio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4" name="Picture 6" descr=""/>
          <p:cNvPicPr/>
          <p:nvPr/>
        </p:nvPicPr>
        <p:blipFill>
          <a:blip r:embed="rId2"/>
          <a:stretch/>
        </p:blipFill>
        <p:spPr>
          <a:xfrm>
            <a:off x="633240" y="3578400"/>
            <a:ext cx="78768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Diagram 13" descr=""/>
          <p:cNvPicPr/>
          <p:nvPr/>
        </p:nvPicPr>
        <p:blipFill>
          <a:blip r:embed="rId1"/>
          <a:stretch/>
        </p:blipFill>
        <p:spPr>
          <a:xfrm>
            <a:off x="4705200" y="3041640"/>
            <a:ext cx="4378320" cy="3365640"/>
          </a:xfrm>
          <a:prstGeom prst="rect">
            <a:avLst/>
          </a:prstGeom>
          <a:ln w="0">
            <a:noFill/>
          </a:ln>
        </p:spPr>
      </p:pic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Buying and Selling Investment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121896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Brokerage firm acts as a buying and selling agent for an investor (except for real estate and certain speculative investments)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78" name="Diagram 5" descr=""/>
          <p:cNvPicPr/>
          <p:nvPr/>
        </p:nvPicPr>
        <p:blipFill>
          <a:blip r:embed="rId2"/>
          <a:stretch/>
        </p:blipFill>
        <p:spPr>
          <a:xfrm>
            <a:off x="212760" y="3041640"/>
            <a:ext cx="4378320" cy="3365640"/>
          </a:xfrm>
          <a:prstGeom prst="rect">
            <a:avLst/>
          </a:prstGeom>
          <a:ln w="0">
            <a:noFill/>
          </a:ln>
        </p:spPr>
      </p:pic>
      <p:sp>
        <p:nvSpPr>
          <p:cNvPr id="1179" name="TextBox 7"/>
          <p:cNvSpPr/>
          <p:nvPr/>
        </p:nvSpPr>
        <p:spPr>
          <a:xfrm>
            <a:off x="0" y="510552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l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ve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TextBox 8"/>
          <p:cNvSpPr/>
          <p:nvPr/>
        </p:nvSpPr>
        <p:spPr>
          <a:xfrm>
            <a:off x="2590920" y="4984920"/>
            <a:ext cx="198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ffer investment advice and one-on-one attention from a bro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Box 10"/>
          <p:cNvSpPr/>
          <p:nvPr/>
        </p:nvSpPr>
        <p:spPr>
          <a:xfrm>
            <a:off x="4800600" y="510552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complete investment trans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TextBox 11"/>
          <p:cNvSpPr/>
          <p:nvPr/>
        </p:nvSpPr>
        <p:spPr>
          <a:xfrm>
            <a:off x="7010280" y="5029200"/>
            <a:ext cx="2133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ff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advice to investors but charge 40-60% l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traight Connector 14"/>
          <p:cNvSpPr/>
          <p:nvPr/>
        </p:nvSpPr>
        <p:spPr>
          <a:xfrm>
            <a:off x="2209680" y="2895480"/>
            <a:ext cx="662940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Diagram 7" descr=""/>
          <p:cNvPicPr/>
          <p:nvPr/>
        </p:nvPicPr>
        <p:blipFill>
          <a:blip r:embed="rId1"/>
          <a:stretch/>
        </p:blipFill>
        <p:spPr>
          <a:xfrm>
            <a:off x="2041560" y="1352520"/>
            <a:ext cx="6664320" cy="4840200"/>
          </a:xfrm>
          <a:prstGeom prst="rect">
            <a:avLst/>
          </a:prstGeom>
          <a:ln w="0">
            <a:noFill/>
          </a:ln>
        </p:spPr>
      </p:pic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Taxatio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86" name="TextBox 4"/>
          <p:cNvSpPr/>
          <p:nvPr/>
        </p:nvSpPr>
        <p:spPr>
          <a:xfrm>
            <a:off x="2803680" y="146376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fits earned on investments are unearned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Box 5"/>
          <p:cNvSpPr/>
          <p:nvPr/>
        </p:nvSpPr>
        <p:spPr>
          <a:xfrm>
            <a:off x="2819520" y="327024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axes are often owed on unearned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TextBox 8"/>
          <p:cNvSpPr/>
          <p:nvPr/>
        </p:nvSpPr>
        <p:spPr>
          <a:xfrm>
            <a:off x="2411280" y="4892760"/>
            <a:ext cx="58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axes are due 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vestment returns in the year the unearned income is recei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Tax-Sheltered Investment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Government tries to encourage certain types of investments by making them tax-sheltered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1" name="TextBox 5"/>
          <p:cNvSpPr/>
          <p:nvPr/>
        </p:nvSpPr>
        <p:spPr>
          <a:xfrm>
            <a:off x="228600" y="3505320"/>
            <a:ext cx="152388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ax-sheltered investments are usually not tax-fre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2" name="Picture 6" descr=""/>
          <p:cNvPicPr/>
          <p:nvPr/>
        </p:nvPicPr>
        <p:blipFill>
          <a:blip r:embed="rId1"/>
          <a:stretch/>
        </p:blipFill>
        <p:spPr>
          <a:xfrm>
            <a:off x="603360" y="3578400"/>
            <a:ext cx="787320" cy="944280"/>
          </a:xfrm>
          <a:prstGeom prst="rect">
            <a:avLst/>
          </a:prstGeom>
          <a:ln w="0">
            <a:noFill/>
          </a:ln>
        </p:spPr>
      </p:pic>
      <p:pic>
        <p:nvPicPr>
          <p:cNvPr id="1193" name="Diagram 3" descr=""/>
          <p:cNvPicPr/>
          <p:nvPr/>
        </p:nvPicPr>
        <p:blipFill>
          <a:blip r:embed="rId2"/>
          <a:stretch/>
        </p:blipFill>
        <p:spPr>
          <a:xfrm>
            <a:off x="2219400" y="3219480"/>
            <a:ext cx="6186240" cy="3089160"/>
          </a:xfrm>
          <a:prstGeom prst="rect">
            <a:avLst/>
          </a:prstGeom>
          <a:ln w="0">
            <a:noFill/>
          </a:ln>
        </p:spPr>
      </p:pic>
      <p:sp>
        <p:nvSpPr>
          <p:cNvPr id="1194" name="Rectangle 4"/>
          <p:cNvSpPr/>
          <p:nvPr/>
        </p:nvSpPr>
        <p:spPr>
          <a:xfrm>
            <a:off x="2293920" y="3483000"/>
            <a:ext cx="250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Tax-sheltered investments- </a:t>
            </a: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eliminate, reduce, defer, or adjust the current year tax li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Rectangle 1"/>
          <p:cNvSpPr/>
          <p:nvPr/>
        </p:nvSpPr>
        <p:spPr>
          <a:xfrm>
            <a:off x="4768920" y="3840120"/>
            <a:ext cx="372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Child/dependent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Education expe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Health care expe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When are taxes for tax-sheltered investments usually paid? 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97" name="Content Placeholder 3" descr=""/>
          <p:cNvPicPr/>
          <p:nvPr/>
        </p:nvPicPr>
        <p:blipFill>
          <a:blip r:embed="rId1"/>
          <a:stretch/>
        </p:blipFill>
        <p:spPr>
          <a:xfrm>
            <a:off x="2054160" y="1352520"/>
            <a:ext cx="3213000" cy="4078440"/>
          </a:xfrm>
          <a:prstGeom prst="rect">
            <a:avLst/>
          </a:prstGeom>
          <a:ln w="0">
            <a:noFill/>
          </a:ln>
        </p:spPr>
      </p:pic>
      <p:pic>
        <p:nvPicPr>
          <p:cNvPr id="1198" name="Content Placeholder 3" descr=""/>
          <p:cNvPicPr/>
          <p:nvPr/>
        </p:nvPicPr>
        <p:blipFill>
          <a:blip r:embed="rId2"/>
          <a:stretch/>
        </p:blipFill>
        <p:spPr>
          <a:xfrm>
            <a:off x="5479920" y="1352520"/>
            <a:ext cx="3213360" cy="4078440"/>
          </a:xfrm>
          <a:prstGeom prst="rect">
            <a:avLst/>
          </a:prstGeom>
          <a:ln w="0">
            <a:noFill/>
          </a:ln>
        </p:spPr>
      </p:pic>
      <p:sp>
        <p:nvSpPr>
          <p:cNvPr id="1199" name="Rectangle 6"/>
          <p:cNvSpPr/>
          <p:nvPr/>
        </p:nvSpPr>
        <p:spPr>
          <a:xfrm>
            <a:off x="2743200" y="54817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often limits to the amount that can be inv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Box 7"/>
          <p:cNvSpPr/>
          <p:nvPr/>
        </p:nvSpPr>
        <p:spPr>
          <a:xfrm>
            <a:off x="5029200" y="3073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8"/>
          <p:cNvSpPr/>
          <p:nvPr/>
        </p:nvSpPr>
        <p:spPr>
          <a:xfrm>
            <a:off x="76320" y="3276720"/>
            <a:ext cx="182880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is the benefit of a tax-sheltered investment if taxes still have to be pai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2" name="Picture 2" descr=""/>
          <p:cNvPicPr/>
          <p:nvPr/>
        </p:nvPicPr>
        <p:blipFill>
          <a:blip r:embed="rId3"/>
          <a:stretch/>
        </p:blipFill>
        <p:spPr>
          <a:xfrm>
            <a:off x="590400" y="3346560"/>
            <a:ext cx="86688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Calibri"/>
              </a:rPr>
              <a:t>Employer-Sponsored Investment Accounts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2057040" y="152388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Type of tax-sheltered investment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Money is automatically taken out of employee’s paycheck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Employers often contribute a portion of money to the investment with no additional cost from the employee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05" name="Diagram 1" descr=""/>
          <p:cNvPicPr/>
          <p:nvPr/>
        </p:nvPicPr>
        <p:blipFill>
          <a:blip r:embed="rId1"/>
          <a:stretch/>
        </p:blipFill>
        <p:spPr>
          <a:xfrm>
            <a:off x="444600" y="3676680"/>
            <a:ext cx="8254800" cy="3267000"/>
          </a:xfrm>
          <a:prstGeom prst="rect">
            <a:avLst/>
          </a:prstGeom>
          <a:ln w="0">
            <a:noFill/>
          </a:ln>
        </p:spPr>
      </p:pic>
      <p:sp>
        <p:nvSpPr>
          <p:cNvPr id="1206" name="TextBox 5"/>
          <p:cNvSpPr/>
          <p:nvPr/>
        </p:nvSpPr>
        <p:spPr>
          <a:xfrm>
            <a:off x="228600" y="3809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3365640" y="4529160"/>
            <a:ext cx="2436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er contributes the same amount of money to the employee’s investment acc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Rectangle 7"/>
          <p:cNvSpPr/>
          <p:nvPr/>
        </p:nvSpPr>
        <p:spPr>
          <a:xfrm>
            <a:off x="6553080" y="449424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ee benefits from having double the amount of money investe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057040" y="426960"/>
            <a:ext cx="6629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Calibri"/>
              </a:rPr>
              <a:t>Advantages to Employer-Sponsored Investments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10" name="Content Placeholder 5" descr=""/>
          <p:cNvPicPr/>
          <p:nvPr/>
        </p:nvPicPr>
        <p:blipFill>
          <a:blip r:embed="rId1"/>
          <a:stretch/>
        </p:blipFill>
        <p:spPr>
          <a:xfrm>
            <a:off x="2054160" y="2266920"/>
            <a:ext cx="6639120" cy="3878280"/>
          </a:xfrm>
          <a:prstGeom prst="rect">
            <a:avLst/>
          </a:prstGeom>
          <a:ln w="0">
            <a:noFill/>
          </a:ln>
        </p:spPr>
      </p:pic>
      <p:sp>
        <p:nvSpPr>
          <p:cNvPr id="1211" name="TextBox 6"/>
          <p:cNvSpPr/>
          <p:nvPr/>
        </p:nvSpPr>
        <p:spPr>
          <a:xfrm>
            <a:off x="2720880" y="26208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Reduces tax l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TextBox 7"/>
          <p:cNvSpPr/>
          <p:nvPr/>
        </p:nvSpPr>
        <p:spPr>
          <a:xfrm>
            <a:off x="5978520" y="235908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Makes investing auto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TextBox 8"/>
          <p:cNvSpPr/>
          <p:nvPr/>
        </p:nvSpPr>
        <p:spPr>
          <a:xfrm>
            <a:off x="3701880" y="4559400"/>
            <a:ext cx="33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Possibility for employer to match inves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TextBox 9"/>
          <p:cNvSpPr/>
          <p:nvPr/>
        </p:nvSpPr>
        <p:spPr>
          <a:xfrm>
            <a:off x="152280" y="2922480"/>
            <a:ext cx="175284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t is recommended that a person utilize these investment tools as much as possible if they are off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5" name="Picture 6" descr=""/>
          <p:cNvPicPr/>
          <p:nvPr/>
        </p:nvPicPr>
        <p:blipFill>
          <a:blip r:embed="rId2"/>
          <a:stretch/>
        </p:blipFill>
        <p:spPr>
          <a:xfrm>
            <a:off x="682560" y="3048120"/>
            <a:ext cx="78120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ule of 72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057040" y="134136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s a person to easily calculate when the future value of an investment will double the principal amoun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18" name="Diagram 3" descr=""/>
          <p:cNvPicPr/>
          <p:nvPr/>
        </p:nvPicPr>
        <p:blipFill>
          <a:blip r:embed="rId1"/>
          <a:stretch/>
        </p:blipFill>
        <p:spPr>
          <a:xfrm>
            <a:off x="895320" y="3578400"/>
            <a:ext cx="768816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Albert Einstei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20" name="Picture 5" descr="einstein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052800"/>
            <a:ext cx="2666880" cy="2352600"/>
          </a:xfrm>
          <a:prstGeom prst="rect">
            <a:avLst/>
          </a:prstGeom>
          <a:ln w="0">
            <a:noFill/>
          </a:ln>
        </p:spPr>
      </p:pic>
      <p:sp>
        <p:nvSpPr>
          <p:cNvPr id="1221" name="Text Box 9"/>
          <p:cNvSpPr/>
          <p:nvPr/>
        </p:nvSpPr>
        <p:spPr>
          <a:xfrm>
            <a:off x="3657600" y="1447920"/>
            <a:ext cx="51814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Credited for discovering the mathematical equation for compounding interest, thus the “Rule of 72.” At 10% interest rate, money doubles every 7.2 years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T=P(I+I/N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Y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Box 8"/>
          <p:cNvSpPr/>
          <p:nvPr/>
        </p:nvSpPr>
        <p:spPr>
          <a:xfrm>
            <a:off x="457200" y="541008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t is the greatest mathematical discovery of all time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What Can the “Rule of 72” Determine?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24" name="Diagram 6" descr=""/>
          <p:cNvPicPr/>
          <p:nvPr/>
        </p:nvPicPr>
        <p:blipFill>
          <a:blip r:embed="rId1"/>
          <a:stretch/>
        </p:blipFill>
        <p:spPr>
          <a:xfrm>
            <a:off x="682560" y="1212840"/>
            <a:ext cx="9613800" cy="5346720"/>
          </a:xfrm>
          <a:prstGeom prst="rect">
            <a:avLst/>
          </a:prstGeom>
          <a:ln w="0">
            <a:noFill/>
          </a:ln>
        </p:spPr>
      </p:pic>
      <p:sp>
        <p:nvSpPr>
          <p:cNvPr id="1225" name="Rectangle 7"/>
          <p:cNvSpPr/>
          <p:nvPr/>
        </p:nvSpPr>
        <p:spPr>
          <a:xfrm>
            <a:off x="2771640" y="17683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many years it will take an investment to double at a given interest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Rectangle 8"/>
          <p:cNvSpPr/>
          <p:nvPr/>
        </p:nvSpPr>
        <p:spPr>
          <a:xfrm>
            <a:off x="5788080" y="181296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long it will take debt to double if no payments are m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ectangle 9"/>
          <p:cNvSpPr/>
          <p:nvPr/>
        </p:nvSpPr>
        <p:spPr>
          <a:xfrm>
            <a:off x="2808360" y="40672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interest rate an investment must earn to double within a specific time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5749920" y="406080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many times money (or debt) will double in a specific time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What is Investing?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2057040" y="1523880"/>
            <a:ext cx="6629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Purchase of assets with the goal of increasing future income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cuses on wealth accumulation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Appropriate for long-term goals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23" name="TextBox 3"/>
          <p:cNvSpPr/>
          <p:nvPr/>
        </p:nvSpPr>
        <p:spPr>
          <a:xfrm>
            <a:off x="152280" y="3200400"/>
            <a:ext cx="175284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are examples of long-term goals that can be accomplished by investi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114800" y="401472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2" descr=""/>
          <p:cNvPicPr/>
          <p:nvPr/>
        </p:nvPicPr>
        <p:blipFill>
          <a:blip r:embed="rId2"/>
          <a:stretch/>
        </p:blipFill>
        <p:spPr>
          <a:xfrm>
            <a:off x="590400" y="3273480"/>
            <a:ext cx="86688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ule of 72” FYI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30" name="Rectangle 3"/>
          <p:cNvSpPr/>
          <p:nvPr/>
        </p:nvSpPr>
        <p:spPr>
          <a:xfrm>
            <a:off x="1981080" y="1600200"/>
            <a:ext cx="6934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Only an approxi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Interest rate must remain con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Interest rate is </a:t>
            </a:r>
            <a:r>
              <a:rPr b="1" lang="en-US" sz="3200" spc="-1" strike="noStrike" u="sng">
                <a:solidFill>
                  <a:srgbClr val="595959"/>
                </a:solidFill>
                <a:uFillTx/>
                <a:latin typeface="Calibri"/>
                <a:ea typeface="Calibri"/>
              </a:rPr>
              <a:t>not</a:t>
            </a: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 converted to a dec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Equation does not allow for additional payments to be made to the original am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Interest earned is reinves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Tax deductions are not inclu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Doug’s Certificate of Deposit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32" name="Rectangle 3"/>
          <p:cNvSpPr/>
          <p:nvPr/>
        </p:nvSpPr>
        <p:spPr>
          <a:xfrm>
            <a:off x="457200" y="3198960"/>
            <a:ext cx="8229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vested $2,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terest Rate is 6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Rectangle 34"/>
          <p:cNvSpPr/>
          <p:nvPr/>
        </p:nvSpPr>
        <p:spPr>
          <a:xfrm>
            <a:off x="2133720" y="175248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oug invested $2,500 into a Certificate of Deposit earning a 6.5% interest rate.  How long will it take Doug’s investment to dou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4" name="Diagram 7" descr=""/>
          <p:cNvPicPr/>
          <p:nvPr/>
        </p:nvPicPr>
        <p:blipFill>
          <a:blip r:embed="rId1"/>
          <a:stretch/>
        </p:blipFill>
        <p:spPr>
          <a:xfrm>
            <a:off x="974880" y="4108320"/>
            <a:ext cx="77184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Jessica’s Credit Card Debt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36" name="Rectangle 3"/>
          <p:cNvSpPr/>
          <p:nvPr/>
        </p:nvSpPr>
        <p:spPr>
          <a:xfrm>
            <a:off x="457200" y="3429000"/>
            <a:ext cx="807732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$2,200 balance on credit c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8% interest 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Rectangle 27"/>
          <p:cNvSpPr/>
          <p:nvPr/>
        </p:nvSpPr>
        <p:spPr>
          <a:xfrm>
            <a:off x="1828800" y="121932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Jessica has a $2,200 balance on her credit card with an 18% interest rate.   If Jessica chooses to not make any payments and does not receive late charges, how long will it take for her balance to dou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8" name="Diagram 6" descr=""/>
          <p:cNvPicPr/>
          <p:nvPr/>
        </p:nvPicPr>
        <p:blipFill>
          <a:blip r:embed="rId1"/>
          <a:stretch/>
        </p:blipFill>
        <p:spPr>
          <a:xfrm>
            <a:off x="974880" y="4187880"/>
            <a:ext cx="784512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Jacob’s Car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57200" y="3200400"/>
            <a:ext cx="815328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$5,000 to inv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ants investment to double in 4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Rectangle 25"/>
          <p:cNvSpPr/>
          <p:nvPr/>
        </p:nvSpPr>
        <p:spPr>
          <a:xfrm>
            <a:off x="1981080" y="1447920"/>
            <a:ext cx="69343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Jacob currently has $5,000 to invest in a car after graduation in 4 years.  What interest rate is required for him to double his invest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2" name="Diagram 6" descr=""/>
          <p:cNvPicPr/>
          <p:nvPr/>
        </p:nvPicPr>
        <p:blipFill>
          <a:blip r:embed="rId1"/>
          <a:stretch/>
        </p:blipFill>
        <p:spPr>
          <a:xfrm>
            <a:off x="974880" y="4187880"/>
            <a:ext cx="768816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Summary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44" name="Content Placeholder 3" descr=""/>
          <p:cNvPicPr/>
          <p:nvPr/>
        </p:nvPicPr>
        <p:blipFill>
          <a:blip r:embed="rId1"/>
          <a:stretch/>
        </p:blipFill>
        <p:spPr>
          <a:xfrm>
            <a:off x="1901880" y="1432080"/>
            <a:ext cx="7400880" cy="4713120"/>
          </a:xfrm>
          <a:prstGeom prst="rect">
            <a:avLst/>
          </a:prstGeom>
          <a:ln w="0">
            <a:noFill/>
          </a:ln>
        </p:spPr>
      </p:pic>
      <p:sp>
        <p:nvSpPr>
          <p:cNvPr id="1245" name="Rectangle 4"/>
          <p:cNvSpPr/>
          <p:nvPr/>
        </p:nvSpPr>
        <p:spPr>
          <a:xfrm>
            <a:off x="5715000" y="5021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Rule of 72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Rectangle 5"/>
          <p:cNvSpPr/>
          <p:nvPr/>
        </p:nvSpPr>
        <p:spPr>
          <a:xfrm>
            <a:off x="3141720" y="13525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relationship between risk and retur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Rectangle 6"/>
          <p:cNvSpPr/>
          <p:nvPr/>
        </p:nvSpPr>
        <p:spPr>
          <a:xfrm>
            <a:off x="5734080" y="1519200"/>
            <a:ext cx="22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an a person reduce investment ris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Rectangle 7"/>
          <p:cNvSpPr/>
          <p:nvPr/>
        </p:nvSpPr>
        <p:spPr>
          <a:xfrm>
            <a:off x="3141720" y="316692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the six main investment too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Rectangle 8"/>
          <p:cNvSpPr/>
          <p:nvPr/>
        </p:nvSpPr>
        <p:spPr>
          <a:xfrm>
            <a:off x="5715000" y="31050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 should a person contact to purchase investment tool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Rectangle 9"/>
          <p:cNvSpPr/>
          <p:nvPr/>
        </p:nvSpPr>
        <p:spPr>
          <a:xfrm>
            <a:off x="3111480" y="481644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a tax-sheltered invest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ate of Retur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057040" y="13716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otal return on investment expressed as a percentage of the amount of money invested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28" name="Diagram 3" descr=""/>
          <p:cNvPicPr/>
          <p:nvPr/>
        </p:nvPicPr>
        <p:blipFill>
          <a:blip r:embed="rId1"/>
          <a:stretch/>
        </p:blipFill>
        <p:spPr>
          <a:xfrm>
            <a:off x="2346480" y="2889360"/>
            <a:ext cx="6132240" cy="1968480"/>
          </a:xfrm>
          <a:prstGeom prst="rect">
            <a:avLst/>
          </a:prstGeom>
          <a:ln w="0">
            <a:noFill/>
          </a:ln>
        </p:spPr>
      </p:pic>
      <p:sp>
        <p:nvSpPr>
          <p:cNvPr id="1029" name="TextBox 4"/>
          <p:cNvSpPr/>
          <p:nvPr/>
        </p:nvSpPr>
        <p:spPr>
          <a:xfrm>
            <a:off x="152280" y="3078000"/>
            <a:ext cx="167652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membe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turn is the profit or income generated by savings and inve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0" name="Picture 6" descr=""/>
          <p:cNvPicPr/>
          <p:nvPr/>
        </p:nvPicPr>
        <p:blipFill>
          <a:blip r:embed="rId2"/>
          <a:stretch/>
        </p:blipFill>
        <p:spPr>
          <a:xfrm>
            <a:off x="682560" y="3144960"/>
            <a:ext cx="781200" cy="95076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1"/>
          <p:cNvSpPr/>
          <p:nvPr/>
        </p:nvSpPr>
        <p:spPr>
          <a:xfrm>
            <a:off x="3000240" y="50403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Investments usually earn higher rates of return than savings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What is Mandy’s Rate of Return?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2057040" y="175212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Mandy saved $2,200 in a money market deposit account. After one year, she has a return of $110.  What is Mandy’s rate of return?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34" name="Diagram 4" descr=""/>
          <p:cNvPicPr/>
          <p:nvPr/>
        </p:nvPicPr>
        <p:blipFill>
          <a:blip r:embed="rId1"/>
          <a:stretch/>
        </p:blipFill>
        <p:spPr>
          <a:xfrm>
            <a:off x="2266920" y="3651120"/>
            <a:ext cx="6134040" cy="1968480"/>
          </a:xfrm>
          <a:prstGeom prst="rect">
            <a:avLst/>
          </a:prstGeom>
          <a:ln w="0">
            <a:noFill/>
          </a:ln>
        </p:spPr>
      </p:pic>
      <p:sp>
        <p:nvSpPr>
          <p:cNvPr id="1035" name="Content Placeholder 2"/>
          <p:cNvSpPr/>
          <p:nvPr/>
        </p:nvSpPr>
        <p:spPr>
          <a:xfrm>
            <a:off x="1752480" y="559764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Mandy’s rate of return on investment is 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What is Derek’s Rate of Return?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1523520" y="18284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Derek invested $900. When he withdrew his money from the investment, he had a total of $1,050. What is Derek’s rate of return?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38" name="Diagram 3" descr=""/>
          <p:cNvPicPr/>
          <p:nvPr/>
        </p:nvPicPr>
        <p:blipFill>
          <a:blip r:embed="rId1"/>
          <a:stretch/>
        </p:blipFill>
        <p:spPr>
          <a:xfrm>
            <a:off x="2266920" y="3651120"/>
            <a:ext cx="6134040" cy="1968480"/>
          </a:xfrm>
          <a:prstGeom prst="rect">
            <a:avLst/>
          </a:prstGeom>
          <a:ln w="0">
            <a:noFill/>
          </a:ln>
        </p:spPr>
      </p:pic>
      <p:sp>
        <p:nvSpPr>
          <p:cNvPr id="1039" name="Content Placeholder 2"/>
          <p:cNvSpPr/>
          <p:nvPr/>
        </p:nvSpPr>
        <p:spPr>
          <a:xfrm>
            <a:off x="1600200" y="56386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Derek’s rate of return on investment is 16.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2133720" y="1295280"/>
            <a:ext cx="678168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isk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2971440" y="1555560"/>
            <a:ext cx="2514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POTENTIAL 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RETURN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3" name="Up Arrow 3"/>
          <p:cNvSpPr/>
          <p:nvPr/>
        </p:nvSpPr>
        <p:spPr>
          <a:xfrm>
            <a:off x="2286000" y="1555920"/>
            <a:ext cx="609480" cy="990360"/>
          </a:xfrm>
          <a:prstGeom prst="up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ff9878"/>
              </a:gs>
              <a:gs pos="100000">
                <a:srgbClr val="ffe0d7"/>
              </a:gs>
            </a:gsLst>
            <a:lin ang="16200000"/>
          </a:gradFill>
          <a:ln w="9360">
            <a:solidFill>
              <a:srgbClr val="ff62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Content Placeholder 2"/>
          <p:cNvSpPr/>
          <p:nvPr/>
        </p:nvSpPr>
        <p:spPr>
          <a:xfrm>
            <a:off x="7086600" y="17082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Calibri"/>
                <a:ea typeface="Calibri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Equal 6"/>
          <p:cNvSpPr/>
          <p:nvPr/>
        </p:nvSpPr>
        <p:spPr>
          <a:xfrm>
            <a:off x="5486400" y="1860480"/>
            <a:ext cx="914400" cy="533520"/>
          </a:xfrm>
          <a:custGeom>
            <a:avLst/>
            <a:gdLst>
              <a:gd name="textAreaLeft" fmla="*/ 120960 w 914400"/>
              <a:gd name="textAreaRight" fmla="*/ 793440 w 914400"/>
              <a:gd name="textAreaTop" fmla="*/ 109800 h 533520"/>
              <a:gd name="textAreaBottom" fmla="*/ 423720 h 533520"/>
            </a:gdLst>
            <a:ahLst/>
            <a:rect l="textAreaLeft" t="textAreaTop" r="textAreaRight" b="textAreaBottom"/>
            <a:pathLst>
              <a:path w="914400" h="533400">
                <a:moveTo>
                  <a:pt x="121204" y="109880"/>
                </a:moveTo>
                <a:lnTo>
                  <a:pt x="793196" y="109880"/>
                </a:lnTo>
                <a:lnTo>
                  <a:pt x="793196" y="235336"/>
                </a:lnTo>
                <a:lnTo>
                  <a:pt x="121204" y="235336"/>
                </a:lnTo>
                <a:close/>
                <a:moveTo>
                  <a:pt x="121204" y="298064"/>
                </a:moveTo>
                <a:lnTo>
                  <a:pt x="793196" y="298064"/>
                </a:lnTo>
                <a:lnTo>
                  <a:pt x="793196" y="423520"/>
                </a:lnTo>
                <a:lnTo>
                  <a:pt x="121204" y="423520"/>
                </a:lnTo>
                <a:close/>
              </a:path>
            </a:pathLst>
          </a:custGeom>
          <a:gradFill rotWithShape="0">
            <a:gsLst>
              <a:gs pos="0">
                <a:srgbClr val="ff9878"/>
              </a:gs>
              <a:gs pos="100000">
                <a:srgbClr val="ffe0d7"/>
              </a:gs>
            </a:gsLst>
            <a:lin ang="16200000"/>
          </a:gradFill>
          <a:ln w="9360">
            <a:solidFill>
              <a:srgbClr val="ff62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Up Arrow 8"/>
          <p:cNvSpPr/>
          <p:nvPr/>
        </p:nvSpPr>
        <p:spPr>
          <a:xfrm>
            <a:off x="6705720" y="1555920"/>
            <a:ext cx="609480" cy="990360"/>
          </a:xfrm>
          <a:prstGeom prst="up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ff9878"/>
              </a:gs>
              <a:gs pos="100000">
                <a:srgbClr val="ffe0d7"/>
              </a:gs>
            </a:gsLst>
            <a:lin ang="16200000"/>
          </a:gradFill>
          <a:ln w="9360">
            <a:solidFill>
              <a:srgbClr val="ff62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Content Placeholder 2"/>
          <p:cNvSpPr/>
          <p:nvPr/>
        </p:nvSpPr>
        <p:spPr>
          <a:xfrm>
            <a:off x="2133720" y="3048120"/>
            <a:ext cx="6629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Risk- 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uncertainty regarding the outcome of a situation or e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Investment Risk- 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possibility that an investment will fail to pay the expected return or fail to pay a return at 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1"/>
          <p:cNvSpPr/>
          <p:nvPr/>
        </p:nvSpPr>
        <p:spPr>
          <a:xfrm>
            <a:off x="2089800" y="5681520"/>
            <a:ext cx="66103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All investment tools carry some level of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TextBox 10"/>
          <p:cNvSpPr/>
          <p:nvPr/>
        </p:nvSpPr>
        <p:spPr>
          <a:xfrm>
            <a:off x="76320" y="3352680"/>
            <a:ext cx="182880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is the risk level of savings tool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603360" y="3425760"/>
            <a:ext cx="860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Inflatio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2057040" y="1523880"/>
            <a:ext cx="662940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0f0"/>
                </a:solidFill>
                <a:uFillTx/>
                <a:latin typeface="Calibri"/>
              </a:rPr>
              <a:t>Inflation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e in the general level of prices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53" name="Content Placeholder 2"/>
          <p:cNvSpPr/>
          <p:nvPr/>
        </p:nvSpPr>
        <p:spPr>
          <a:xfrm>
            <a:off x="2057400" y="3200400"/>
            <a:ext cx="662940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b0f0"/>
                </a:solidFill>
                <a:uFillTx/>
                <a:latin typeface="Calibri"/>
                <a:ea typeface="Calibri"/>
              </a:rPr>
              <a:t>Inflation Ris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 danger that money won’t be worth as much in the future as it is to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TextBox 4"/>
          <p:cNvSpPr/>
          <p:nvPr/>
        </p:nvSpPr>
        <p:spPr>
          <a:xfrm>
            <a:off x="2514600" y="487692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flation risk is usually not a concern with savings since the goal of savings is to provi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inancial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TextBox 5"/>
          <p:cNvSpPr/>
          <p:nvPr/>
        </p:nvSpPr>
        <p:spPr>
          <a:xfrm>
            <a:off x="76320" y="3200400"/>
            <a:ext cx="182880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rive to have the rate of return on investment be higher than the rate of inf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6" name="Picture 6" descr=""/>
          <p:cNvPicPr/>
          <p:nvPr/>
        </p:nvPicPr>
        <p:blipFill>
          <a:blip r:embed="rId1"/>
          <a:stretch/>
        </p:blipFill>
        <p:spPr>
          <a:xfrm>
            <a:off x="590400" y="3303720"/>
            <a:ext cx="78768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Types of Investment Tool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58" name="Diagram 3" descr=""/>
          <p:cNvPicPr/>
          <p:nvPr/>
        </p:nvPicPr>
        <p:blipFill>
          <a:blip r:embed="rId1"/>
          <a:stretch/>
        </p:blipFill>
        <p:spPr>
          <a:xfrm>
            <a:off x="2127240" y="1663560"/>
            <a:ext cx="64134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5:43:43Z</dcterms:created>
  <dc:creator>Lindy</dc:creator>
  <dc:description/>
  <dc:language>en-US</dc:language>
  <cp:lastModifiedBy>image</cp:lastModifiedBy>
  <dcterms:modified xsi:type="dcterms:W3CDTF">2011-11-01T16:37:59Z</dcterms:modified>
  <cp:revision>129</cp:revision>
  <dc:subject/>
  <dc:title>Slide 1</dc:title>
</cp:coreProperties>
</file>